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CCD-ACC5-4639-B8E1-CEC94CBA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DA9-02F0-452B-B754-68D637B5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585-1728-4EA6-8CD9-04A8A68C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DAA-B739-4709-8F87-52D561C4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766-37EB-44B2-A96D-C4C521FE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4D8-EF89-4B9F-8C46-716989ED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D7D-48B7-4AE8-A29A-E4D161E0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29A-D0F7-4D93-9F27-A52E12BF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DBB-E153-475F-8448-1A598AAE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31F-6546-402F-94BD-660E676E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10B-F63B-4370-A846-4F5DCDAD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E54-0DEB-49D8-98A2-6B933FDB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073F-B6AB-4715-886A-F411821E4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3375000" cy="3206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5867280" y="1600200"/>
            <a:ext cx="99072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981080" y="3962160"/>
            <a:ext cx="144792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160" y="32767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352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1447920"/>
            <a:ext cx="1295280" cy="99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019920" y="4038120"/>
            <a:ext cx="129528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304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s Ha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5:23:26Z</dcterms:created>
  <dc:creator>FCPS</dc:creator>
  <dc:description/>
  <dc:language>en-US</dc:language>
  <cp:lastModifiedBy>fcps</cp:lastModifiedBy>
  <dcterms:modified xsi:type="dcterms:W3CDTF">2009-02-17T14:37:39Z</dcterms:modified>
  <cp:revision>2</cp:revision>
  <dc:subject/>
  <dc:title>Slide 1</dc:title>
</cp:coreProperties>
</file>